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4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6AF-EBD8-42B4-9730-FCB1DAF8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192-FFE2-4473-B6E1-05E51F4F4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A090-EBE8-4D8A-AB8D-D5C98ECBD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0B56-4EA7-4842-A1D6-A0C6891EF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D57-50DE-40D1-8436-3E643C0653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6AB-A9BE-4373-AF6E-73EB92D6B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7F5B-3850-40A9-8604-E53EDCCA2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AAD-E2E8-4AA4-A670-DD83B0EC8B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B39D-0385-4046-898D-FF1F43DD67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E891-59E0-4789-A2EB-012DB911D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AEBE-5452-4A4E-BE8A-630B5E6F15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7FE-9D25-478A-8638-4198BEB2D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B4E-A6F7-4ED7-BFF0-BFD3C29578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FD4-3B74-4596-A50B-FFC8A3C96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8B5-8CB0-4746-842C-D31C0CE4A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8074-B071-47F3-B4D6-B437D5F80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15F-5300-4C7F-9564-4A3BBAC02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C4A-3377-48A6-A5BD-FEDED04F6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CD6-2DE7-4F0E-8C9C-78FA0E2598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2 by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7772400" y="6553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</a:t>
            </a:r>
            <a:fld id="{22B43898-0242-4BC2-9BBA-946D62E0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8288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066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2.jpe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Leadership in Management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and Motivat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2149560" y="1447920"/>
            <a:ext cx="4844880" cy="4865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ditional approaches to understanding leadership: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743200" y="2057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rait The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32767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ehavioral The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43200" y="4952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tingency The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58640" y="534960"/>
            <a:ext cx="8226720" cy="98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rait Theories of Leadershi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5800" y="1828800"/>
            <a:ext cx="7768800" cy="1144440"/>
            <a:chOff x="685800" y="1828800"/>
            <a:chExt cx="7768800" cy="1144440"/>
          </a:xfrm>
        </p:grpSpPr>
        <p:sp>
          <p:nvSpPr>
            <p:cNvPr id="175" name="Rectangle 5"/>
            <p:cNvSpPr/>
            <p:nvPr/>
          </p:nvSpPr>
          <p:spPr>
            <a:xfrm>
              <a:off x="685800" y="1830240"/>
              <a:ext cx="2892240" cy="1140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mbi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Ener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5562360" y="1830240"/>
              <a:ext cx="2892240" cy="1140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si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o Lea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>
              <a:off x="3725640" y="1828800"/>
              <a:ext cx="1690200" cy="1144440"/>
            </a:xfrm>
            <a:prstGeom prst="pie">
              <a:avLst/>
            </a:pr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687240" y="3352680"/>
            <a:ext cx="7769520" cy="1144800"/>
            <a:chOff x="687240" y="3352680"/>
            <a:chExt cx="7769520" cy="1144800"/>
          </a:xfrm>
        </p:grpSpPr>
        <p:sp>
          <p:nvSpPr>
            <p:cNvPr id="179" name="Rectangle 9"/>
            <p:cNvSpPr/>
            <p:nvPr/>
          </p:nvSpPr>
          <p:spPr>
            <a:xfrm>
              <a:off x="5564160" y="3354480"/>
              <a:ext cx="2892600" cy="113976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lf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fiden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7240" y="3354480"/>
              <a:ext cx="2892600" cy="113976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nes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Integr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>
              <a:off x="3727440" y="3352680"/>
              <a:ext cx="1690560" cy="1144800"/>
            </a:xfrm>
            <a:prstGeom prst="pie">
              <a:avLst/>
            </a:prstGeom>
            <a:solidFill>
              <a:srgbClr val="f8f8f8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687240" y="4876920"/>
            <a:ext cx="7769520" cy="1144440"/>
            <a:chOff x="687240" y="4876920"/>
            <a:chExt cx="7769520" cy="1144440"/>
          </a:xfrm>
        </p:grpSpPr>
        <p:sp>
          <p:nvSpPr>
            <p:cNvPr id="183" name="Rectangle 13"/>
            <p:cNvSpPr/>
            <p:nvPr/>
          </p:nvSpPr>
          <p:spPr>
            <a:xfrm>
              <a:off x="687240" y="4878360"/>
              <a:ext cx="2892600" cy="1139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lligen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564160" y="4878360"/>
              <a:ext cx="2892600" cy="1139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Job-Releva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>
              <a:off x="3727440" y="4876920"/>
              <a:ext cx="1690560" cy="1144440"/>
            </a:xfrm>
            <a:prstGeom prst="pie">
              <a:avLst/>
            </a:prstGeom>
            <a:solidFill>
              <a:srgbClr val="cc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458640" y="458640"/>
            <a:ext cx="8226720" cy="114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Behavioral Theor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2476440"/>
            <a:ext cx="289584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hio Stat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114800" y="4343400"/>
            <a:ext cx="4419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mployee-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114800" y="5334120"/>
            <a:ext cx="4419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duction-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09480" y="4495680"/>
            <a:ext cx="289584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University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chi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114800" y="2362320"/>
            <a:ext cx="4419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itiating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4114800" y="3276720"/>
            <a:ext cx="4419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si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AutoShape 21"/>
          <p:cNvCxnSpPr>
            <a:stCxn id="192" idx="1"/>
            <a:endCxn id="191" idx="1"/>
          </p:cNvCxnSpPr>
          <p:nvPr/>
        </p:nvCxnSpPr>
        <p:spPr>
          <a:xfrm flipH="1" rot="10800000">
            <a:off x="4114440" y="2704320"/>
            <a:ext cx="2160" cy="91512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Line 22"/>
          <p:cNvSpPr/>
          <p:nvPr/>
        </p:nvSpPr>
        <p:spPr>
          <a:xfrm flipH="1">
            <a:off x="3505320" y="3200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AutoShape 23"/>
          <p:cNvCxnSpPr>
            <a:stCxn id="188" idx="1"/>
            <a:endCxn id="189" idx="1"/>
          </p:cNvCxnSpPr>
          <p:nvPr/>
        </p:nvCxnSpPr>
        <p:spPr>
          <a:xfrm flipH="1" flipV="1" rot="10800000">
            <a:off x="4114440" y="4685400"/>
            <a:ext cx="2160" cy="99108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Line 24"/>
          <p:cNvSpPr/>
          <p:nvPr/>
        </p:nvSpPr>
        <p:spPr>
          <a:xfrm flipH="1">
            <a:off x="3505320" y="5181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58640" y="1373040"/>
            <a:ext cx="8302680" cy="479772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02680" cy="911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he Managerial Gri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432240" y="5835600"/>
            <a:ext cx="245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f8f8"/>
                </a:solidFill>
                <a:uFillTx/>
                <a:latin typeface="Arial"/>
              </a:rPr>
              <a:t>Concern for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066680" y="1432080"/>
            <a:ext cx="7315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6"/>
          <p:cNvGrpSpPr/>
          <p:nvPr/>
        </p:nvGrpSpPr>
        <p:grpSpPr>
          <a:xfrm>
            <a:off x="1066680" y="1432080"/>
            <a:ext cx="7315200" cy="4114800"/>
            <a:chOff x="1066680" y="1432080"/>
            <a:chExt cx="7315200" cy="4114800"/>
          </a:xfrm>
        </p:grpSpPr>
        <p:sp>
          <p:nvSpPr>
            <p:cNvPr id="202" name="Line 7"/>
            <p:cNvSpPr/>
            <p:nvPr/>
          </p:nvSpPr>
          <p:spPr>
            <a:xfrm>
              <a:off x="1069920" y="18892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1069920" y="23464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1069920" y="28036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1069920" y="32608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1069920" y="37180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069920" y="41752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069920" y="46324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1069920" y="50896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069920" y="5546880"/>
              <a:ext cx="731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06668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838188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82880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66688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>
              <a:off x="350532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>
              <a:off x="434340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>
              <a:off x="518148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3"/>
            <p:cNvSpPr/>
            <p:nvPr/>
          </p:nvSpPr>
          <p:spPr>
            <a:xfrm>
              <a:off x="601992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685800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7620120" y="1434960"/>
              <a:ext cx="0" cy="411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1066680" y="1432080"/>
              <a:ext cx="762120" cy="4572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1066680" y="5089680"/>
              <a:ext cx="762120" cy="4572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7620120" y="5089680"/>
              <a:ext cx="761760" cy="4572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7620120" y="1432080"/>
              <a:ext cx="761760" cy="4572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4343400" y="3260880"/>
              <a:ext cx="838080" cy="4572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Rectangle 31"/>
          <p:cNvSpPr/>
          <p:nvPr/>
        </p:nvSpPr>
        <p:spPr>
          <a:xfrm>
            <a:off x="762120" y="1492200"/>
            <a:ext cx="4572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995040" y="5470560"/>
            <a:ext cx="30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  2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 3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271760" y="5470560"/>
            <a:ext cx="3958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5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  6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 7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8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4"/>
          <p:cNvSpPr/>
          <p:nvPr/>
        </p:nvSpPr>
        <p:spPr>
          <a:xfrm rot="16200000">
            <a:off x="-401400" y="3346560"/>
            <a:ext cx="205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f8f8"/>
                </a:solidFill>
                <a:uFillTx/>
                <a:latin typeface="Arial"/>
              </a:rPr>
              <a:t>Concern for Peo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5"/>
          <p:cNvSpPr/>
          <p:nvPr/>
        </p:nvSpPr>
        <p:spPr>
          <a:xfrm>
            <a:off x="1178280" y="1508040"/>
            <a:ext cx="57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,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6"/>
          <p:cNvSpPr/>
          <p:nvPr/>
        </p:nvSpPr>
        <p:spPr>
          <a:xfrm>
            <a:off x="1178280" y="5165640"/>
            <a:ext cx="57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4496040" y="3305160"/>
            <a:ext cx="57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,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38"/>
          <p:cNvSpPr/>
          <p:nvPr/>
        </p:nvSpPr>
        <p:spPr>
          <a:xfrm>
            <a:off x="7731360" y="1508040"/>
            <a:ext cx="57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,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39"/>
          <p:cNvSpPr/>
          <p:nvPr/>
        </p:nvSpPr>
        <p:spPr>
          <a:xfrm>
            <a:off x="7696440" y="5133960"/>
            <a:ext cx="57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,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838080" y="228600"/>
            <a:ext cx="685800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ndings of the Fiedler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460080" y="4724280"/>
            <a:ext cx="8226720" cy="1828800"/>
            <a:chOff x="460080" y="4724280"/>
            <a:chExt cx="8226720" cy="1828800"/>
          </a:xfrm>
        </p:grpSpPr>
        <p:sp>
          <p:nvSpPr>
            <p:cNvPr id="237" name="Rectangle 4"/>
            <p:cNvSpPr/>
            <p:nvPr/>
          </p:nvSpPr>
          <p:spPr>
            <a:xfrm>
              <a:off x="2092320" y="6248520"/>
              <a:ext cx="293760" cy="304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4440240" y="6248520"/>
              <a:ext cx="439560" cy="30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2019240" y="6248520"/>
              <a:ext cx="660600" cy="15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471600" y="4724280"/>
              <a:ext cx="1760400" cy="1828800"/>
            </a:xfrm>
            <a:prstGeom prst="rect">
              <a:avLst/>
            </a:prstGeom>
            <a:gradFill rotWithShape="0">
              <a:gsLst>
                <a:gs pos="0">
                  <a:srgbClr val="044571"/>
                </a:gs>
                <a:gs pos="50000">
                  <a:srgbClr val="098be3"/>
                </a:gs>
                <a:gs pos="100000">
                  <a:srgbClr val="0445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60080" y="4778280"/>
              <a:ext cx="16898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ateg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eader-Memb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Rel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Task Stru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osition Po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23050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2280960" y="4778280"/>
              <a:ext cx="78480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ro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31114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3143520" y="4778280"/>
              <a:ext cx="67068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917880" y="4724280"/>
              <a:ext cx="7351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3893760" y="4778280"/>
              <a:ext cx="784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ro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47260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4758120" y="4778280"/>
              <a:ext cx="6706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55324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5506920" y="4778280"/>
              <a:ext cx="784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ro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63388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6371640" y="4778280"/>
              <a:ext cx="6692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V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71470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7121160" y="4778280"/>
              <a:ext cx="784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V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ro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7953480" y="4724280"/>
              <a:ext cx="733320" cy="1828800"/>
            </a:xfrm>
            <a:prstGeom prst="rect">
              <a:avLst/>
            </a:prstGeom>
            <a:gradFill rotWithShape="0">
              <a:gsLst>
                <a:gs pos="0">
                  <a:srgbClr val="d3bde5"/>
                </a:gs>
                <a:gs pos="50000">
                  <a:srgbClr val="ebd3ff"/>
                </a:gs>
                <a:gs pos="100000">
                  <a:srgbClr val="d3bde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7984440" y="4778280"/>
              <a:ext cx="6692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V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Line 25"/>
          <p:cNvSpPr/>
          <p:nvPr/>
        </p:nvSpPr>
        <p:spPr>
          <a:xfrm>
            <a:off x="1447920" y="1184400"/>
            <a:ext cx="1440" cy="31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509840" y="1295280"/>
            <a:ext cx="1015920" cy="18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4113360" y="4146480"/>
            <a:ext cx="833400" cy="180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668880" y="1084320"/>
            <a:ext cx="78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707760" y="405612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 rot="16200000">
            <a:off x="172800" y="2686680"/>
            <a:ext cx="157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2513160" y="1266840"/>
            <a:ext cx="1616040" cy="2867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2"/>
          <p:cNvSpPr/>
          <p:nvPr/>
        </p:nvSpPr>
        <p:spPr>
          <a:xfrm flipH="1">
            <a:off x="4925520" y="1266840"/>
            <a:ext cx="1668600" cy="2867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6539040" y="1295280"/>
            <a:ext cx="858600" cy="18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1509840" y="3581280"/>
            <a:ext cx="1251000" cy="180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Freeform 35"/>
          <p:cNvSpPr/>
          <p:nvPr/>
        </p:nvSpPr>
        <p:spPr>
          <a:xfrm>
            <a:off x="5011560" y="1295280"/>
            <a:ext cx="1648080" cy="2287800"/>
          </a:xfrm>
          <a:prstGeom prst="pie">
            <a:avLst/>
          </a:prstGeom>
          <a:noFill/>
          <a:ln cap="rnd" w="255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6669000" y="3581280"/>
            <a:ext cx="781200" cy="180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reeform 37"/>
          <p:cNvSpPr/>
          <p:nvPr/>
        </p:nvSpPr>
        <p:spPr>
          <a:xfrm>
            <a:off x="2760840" y="1297080"/>
            <a:ext cx="1449360" cy="2301840"/>
          </a:xfrm>
          <a:prstGeom prst="pie">
            <a:avLst/>
          </a:prstGeom>
          <a:noFill/>
          <a:ln cap="rnd" w="255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4176720" y="1295280"/>
            <a:ext cx="858960" cy="180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39"/>
          <p:cNvSpPr/>
          <p:nvPr/>
        </p:nvSpPr>
        <p:spPr>
          <a:xfrm>
            <a:off x="6538680" y="2101680"/>
            <a:ext cx="229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-Ori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6555600" y="2558880"/>
            <a:ext cx="1545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Ori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6175440" y="2286000"/>
            <a:ext cx="37764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6175440" y="2743200"/>
            <a:ext cx="377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43"/>
          <p:cNvSpPr/>
          <p:nvPr/>
        </p:nvSpPr>
        <p:spPr>
          <a:xfrm>
            <a:off x="1523880" y="433080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4"/>
          <p:cNvSpPr/>
          <p:nvPr/>
        </p:nvSpPr>
        <p:spPr>
          <a:xfrm>
            <a:off x="3886560" y="4330800"/>
            <a:ext cx="119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5"/>
          <p:cNvSpPr/>
          <p:nvPr/>
        </p:nvSpPr>
        <p:spPr>
          <a:xfrm>
            <a:off x="6324840" y="4330800"/>
            <a:ext cx="150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avo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1433520" y="4299120"/>
            <a:ext cx="630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3"/>
          <p:cNvSpPr/>
          <p:nvPr/>
        </p:nvSpPr>
        <p:spPr>
          <a:xfrm>
            <a:off x="4495680" y="24415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4495680" y="4039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5360" y="301680"/>
            <a:ext cx="8616960" cy="81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he Path-Goal Framework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278160" y="1754280"/>
            <a:ext cx="2511360" cy="98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in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945040" y="3430440"/>
            <a:ext cx="2511720" cy="987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87240" y="3430440"/>
            <a:ext cx="2511720" cy="987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3278160" y="5030640"/>
            <a:ext cx="2511360" cy="987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ordin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in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3200400" y="3924360"/>
            <a:ext cx="2744640" cy="1440"/>
          </a:xfrm>
          <a:prstGeom prst="pie">
            <a:avLst/>
          </a:prstGeom>
          <a:noFill/>
          <a:ln cap="rnd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2743200" y="3886200"/>
            <a:ext cx="6214680" cy="2023560"/>
            <a:chOff x="2743200" y="3886200"/>
            <a:chExt cx="6214680" cy="2023560"/>
          </a:xfrm>
        </p:grpSpPr>
        <p:sp>
          <p:nvSpPr>
            <p:cNvPr id="291" name="Rectangle 5"/>
            <p:cNvSpPr/>
            <p:nvPr/>
          </p:nvSpPr>
          <p:spPr>
            <a:xfrm>
              <a:off x="6158160" y="4861440"/>
              <a:ext cx="2799720" cy="1043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2793600" y="3886200"/>
              <a:ext cx="3359520" cy="2023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2743200" y="3886200"/>
              <a:ext cx="6210360" cy="9943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2751120" y="1344600"/>
            <a:ext cx="6211800" cy="1965240"/>
            <a:chOff x="2751120" y="1344600"/>
            <a:chExt cx="6211800" cy="1965240"/>
          </a:xfrm>
        </p:grpSpPr>
        <p:sp>
          <p:nvSpPr>
            <p:cNvPr id="295" name="Rectangle 9"/>
            <p:cNvSpPr/>
            <p:nvPr/>
          </p:nvSpPr>
          <p:spPr>
            <a:xfrm>
              <a:off x="6129000" y="134460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2751120" y="1365120"/>
              <a:ext cx="3373200" cy="1944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2757240" y="2381400"/>
              <a:ext cx="6205680" cy="9284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417760" y="2616120"/>
            <a:ext cx="6553080" cy="1041480"/>
            <a:chOff x="2417760" y="2616120"/>
            <a:chExt cx="6553080" cy="1041480"/>
          </a:xfrm>
        </p:grpSpPr>
        <p:sp>
          <p:nvSpPr>
            <p:cNvPr id="299" name="Freeform 13"/>
            <p:cNvSpPr/>
            <p:nvPr/>
          </p:nvSpPr>
          <p:spPr>
            <a:xfrm>
              <a:off x="2417760" y="2616120"/>
              <a:ext cx="3754080" cy="10414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6170400" y="2616120"/>
              <a:ext cx="2800440" cy="1041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1608120" y="1330200"/>
            <a:ext cx="3771720" cy="2309400"/>
            <a:chOff x="1608120" y="1330200"/>
            <a:chExt cx="3771720" cy="2309400"/>
          </a:xfrm>
        </p:grpSpPr>
        <p:sp>
          <p:nvSpPr>
            <p:cNvPr id="302" name="Rectangle 16"/>
            <p:cNvSpPr/>
            <p:nvPr/>
          </p:nvSpPr>
          <p:spPr>
            <a:xfrm>
              <a:off x="2572200" y="1330200"/>
              <a:ext cx="2801520" cy="1043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7"/>
            <p:cNvSpPr/>
            <p:nvPr/>
          </p:nvSpPr>
          <p:spPr>
            <a:xfrm>
              <a:off x="1612800" y="1350720"/>
              <a:ext cx="954720" cy="2288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1608120" y="2378520"/>
              <a:ext cx="3771720" cy="126108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temporary approaches to understanding leadership: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6" name="Group 20"/>
          <p:cNvGrpSpPr/>
          <p:nvPr/>
        </p:nvGrpSpPr>
        <p:grpSpPr>
          <a:xfrm>
            <a:off x="2362320" y="3886200"/>
            <a:ext cx="3763440" cy="2623680"/>
            <a:chOff x="2362320" y="3886200"/>
            <a:chExt cx="3763440" cy="2623680"/>
          </a:xfrm>
        </p:grpSpPr>
        <p:sp>
          <p:nvSpPr>
            <p:cNvPr id="307" name="Freeform 21"/>
            <p:cNvSpPr/>
            <p:nvPr/>
          </p:nvSpPr>
          <p:spPr>
            <a:xfrm>
              <a:off x="2387520" y="3886200"/>
              <a:ext cx="954720" cy="261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2362320" y="3886200"/>
              <a:ext cx="3757320" cy="157500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23"/>
            <p:cNvSpPr/>
            <p:nvPr/>
          </p:nvSpPr>
          <p:spPr>
            <a:xfrm>
              <a:off x="3326760" y="5467320"/>
              <a:ext cx="2799000" cy="1042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Group 24"/>
          <p:cNvGrpSpPr/>
          <p:nvPr/>
        </p:nvGrpSpPr>
        <p:grpSpPr>
          <a:xfrm>
            <a:off x="2417760" y="3759120"/>
            <a:ext cx="6553080" cy="1042920"/>
            <a:chOff x="2417760" y="3759120"/>
            <a:chExt cx="6553080" cy="1042920"/>
          </a:xfrm>
        </p:grpSpPr>
        <p:sp>
          <p:nvSpPr>
            <p:cNvPr id="311" name="Freeform 25"/>
            <p:cNvSpPr/>
            <p:nvPr/>
          </p:nvSpPr>
          <p:spPr>
            <a:xfrm>
              <a:off x="2417760" y="3759120"/>
              <a:ext cx="3754080" cy="10429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26"/>
            <p:cNvSpPr/>
            <p:nvPr/>
          </p:nvSpPr>
          <p:spPr>
            <a:xfrm>
              <a:off x="6170400" y="375912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Group 27"/>
          <p:cNvGrpSpPr/>
          <p:nvPr/>
        </p:nvGrpSpPr>
        <p:grpSpPr>
          <a:xfrm>
            <a:off x="150840" y="4112640"/>
            <a:ext cx="3774960" cy="2313000"/>
            <a:chOff x="150840" y="4112640"/>
            <a:chExt cx="3774960" cy="2313000"/>
          </a:xfrm>
        </p:grpSpPr>
        <p:sp>
          <p:nvSpPr>
            <p:cNvPr id="314" name="Rectangle 28"/>
            <p:cNvSpPr/>
            <p:nvPr/>
          </p:nvSpPr>
          <p:spPr>
            <a:xfrm rot="10795200">
              <a:off x="159120" y="5380560"/>
              <a:ext cx="280260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29"/>
            <p:cNvSpPr/>
            <p:nvPr/>
          </p:nvSpPr>
          <p:spPr>
            <a:xfrm rot="10795200">
              <a:off x="2965680" y="4113000"/>
              <a:ext cx="955080" cy="228744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30"/>
            <p:cNvSpPr/>
            <p:nvPr/>
          </p:nvSpPr>
          <p:spPr>
            <a:xfrm rot="10795200">
              <a:off x="151560" y="4115160"/>
              <a:ext cx="3773160" cy="126036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Rectangle 31"/>
          <p:cNvSpPr/>
          <p:nvPr/>
        </p:nvSpPr>
        <p:spPr>
          <a:xfrm>
            <a:off x="1353960" y="2611440"/>
            <a:ext cx="4330800" cy="25002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32" descr="E:\PFiles\MSOffice\Clipart\standard\stddir2\bs01594_.wmf"/>
          <p:cNvPicPr/>
          <p:nvPr/>
        </p:nvPicPr>
        <p:blipFill>
          <a:blip r:embed="rId14"/>
          <a:stretch/>
        </p:blipFill>
        <p:spPr>
          <a:xfrm>
            <a:off x="2286000" y="2749680"/>
            <a:ext cx="2362320" cy="2298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3"/>
          <p:cNvSpPr/>
          <p:nvPr/>
        </p:nvSpPr>
        <p:spPr>
          <a:xfrm>
            <a:off x="2666880" y="1523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tribution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6248520" y="14479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ership Sub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62485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rismatic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248520" y="3886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formational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6248520" y="49528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heroic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29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f-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152280" y="548640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Leadership and Emotional Intellige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haracteristics of Charismatic Leader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28600" y="1295280"/>
          <a:ext cx="8686800" cy="512136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lf-confid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have complete faith in themselv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portray a future better than the pres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lity to articul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can present their vision clearly and tailor their presentation to their listeners’ need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ong convi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are absolutely committed to their vision and seen as willing to make great sacrifices to achieve i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raordinary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can act out of the ordinary and out-rageously and are admired when the results are successfu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lity to effect ch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are perceived as important to change happening, not in maintaining thing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wareness of re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ismatic leaders understand the environment and resources that are around them and how best to use the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 advTm="1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racteristics of Transactional and Transformational Lead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nsactional Lea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gent rew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by exception (activ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by exception (passiv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issez-Fai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nsformational Lea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is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llectual stim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vidualized consid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Narrow"/>
              </a:rPr>
              <a:t>Characteristics of Traditional and Self-Managing Behaviors:</a:t>
            </a: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295280"/>
          <a:ext cx="8686800" cy="503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ditional Leader Behavi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lf-Managing Leader Behavi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za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ures own and subordinates work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s self-rewar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mina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tricts or limits the discretion of individuals or group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s self-observa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tion –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s standards for task performanc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s self-goal sett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ogni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resses approval or disapproval of behavio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s self-criticis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gra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motes group cohesion and reduces group conflict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s self-rehears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ca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vides, seeks, and exchanges information with group member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s as a role model by exhibiting appropriate behavi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sters the development of a culture that nourishes and supports self-leadershi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08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00400" y="2209320"/>
            <a:ext cx="5562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ing and Motivating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leaders energize, direct, and sustain subordinates’ eff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apable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tiv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to do their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depends on personal ability and on the opportunities afforded by the organization for employees to use their tal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Motivati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tivate employees, managers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challenging go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e desired behavi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 employees’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jobs that are interesting and offer opportunities for incumbents to use their tal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erformance-contingent rewards that people val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f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905120" y="4114800"/>
            <a:ext cx="6216480" cy="2022480"/>
            <a:chOff x="1905120" y="4114800"/>
            <a:chExt cx="6216480" cy="2022480"/>
          </a:xfrm>
        </p:grpSpPr>
        <p:sp>
          <p:nvSpPr>
            <p:cNvPr id="340" name="Rectangle 5"/>
            <p:cNvSpPr/>
            <p:nvPr/>
          </p:nvSpPr>
          <p:spPr>
            <a:xfrm>
              <a:off x="5321160" y="508968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1955880" y="4114800"/>
              <a:ext cx="3360600" cy="2022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7"/>
            <p:cNvSpPr/>
            <p:nvPr/>
          </p:nvSpPr>
          <p:spPr>
            <a:xfrm>
              <a:off x="1905120" y="4114800"/>
              <a:ext cx="6211800" cy="993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752480" y="1219320"/>
            <a:ext cx="6211800" cy="1965240"/>
            <a:chOff x="1752480" y="1219320"/>
            <a:chExt cx="6211800" cy="1965240"/>
          </a:xfrm>
        </p:grpSpPr>
        <p:sp>
          <p:nvSpPr>
            <p:cNvPr id="344" name="Rectangle 9"/>
            <p:cNvSpPr/>
            <p:nvPr/>
          </p:nvSpPr>
          <p:spPr>
            <a:xfrm>
              <a:off x="5130360" y="121932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0"/>
            <p:cNvSpPr/>
            <p:nvPr/>
          </p:nvSpPr>
          <p:spPr>
            <a:xfrm>
              <a:off x="1752480" y="1239840"/>
              <a:ext cx="3373200" cy="1944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1"/>
            <p:cNvSpPr/>
            <p:nvPr/>
          </p:nvSpPr>
          <p:spPr>
            <a:xfrm>
              <a:off x="1758600" y="2256120"/>
              <a:ext cx="6205680" cy="9284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2"/>
          <p:cNvGrpSpPr/>
          <p:nvPr/>
        </p:nvGrpSpPr>
        <p:grpSpPr>
          <a:xfrm>
            <a:off x="1523880" y="2514600"/>
            <a:ext cx="6553080" cy="1042920"/>
            <a:chOff x="1523880" y="2514600"/>
            <a:chExt cx="6553080" cy="1042920"/>
          </a:xfrm>
        </p:grpSpPr>
        <p:sp>
          <p:nvSpPr>
            <p:cNvPr id="348" name="Freeform 13"/>
            <p:cNvSpPr/>
            <p:nvPr/>
          </p:nvSpPr>
          <p:spPr>
            <a:xfrm>
              <a:off x="1523880" y="2514600"/>
              <a:ext cx="3754080" cy="104292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14"/>
            <p:cNvSpPr/>
            <p:nvPr/>
          </p:nvSpPr>
          <p:spPr>
            <a:xfrm>
              <a:off x="5276520" y="251460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5"/>
          <p:cNvGrpSpPr/>
          <p:nvPr/>
        </p:nvGrpSpPr>
        <p:grpSpPr>
          <a:xfrm>
            <a:off x="762120" y="1066680"/>
            <a:ext cx="3770280" cy="2307960"/>
            <a:chOff x="762120" y="1066680"/>
            <a:chExt cx="3770280" cy="2307960"/>
          </a:xfrm>
        </p:grpSpPr>
        <p:sp>
          <p:nvSpPr>
            <p:cNvPr id="351" name="Rectangle 16"/>
            <p:cNvSpPr/>
            <p:nvPr/>
          </p:nvSpPr>
          <p:spPr>
            <a:xfrm>
              <a:off x="1725840" y="106668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766800" y="1087200"/>
              <a:ext cx="954360" cy="22874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762120" y="2114280"/>
              <a:ext cx="3770280" cy="1260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Group 19"/>
          <p:cNvGrpSpPr/>
          <p:nvPr/>
        </p:nvGrpSpPr>
        <p:grpSpPr>
          <a:xfrm>
            <a:off x="990720" y="3886200"/>
            <a:ext cx="3765600" cy="2625840"/>
            <a:chOff x="990720" y="3886200"/>
            <a:chExt cx="3765600" cy="2625840"/>
          </a:xfrm>
        </p:grpSpPr>
        <p:sp>
          <p:nvSpPr>
            <p:cNvPr id="355" name="Freeform 20"/>
            <p:cNvSpPr/>
            <p:nvPr/>
          </p:nvSpPr>
          <p:spPr>
            <a:xfrm>
              <a:off x="1016280" y="3886200"/>
              <a:ext cx="955440" cy="261756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990720" y="3886200"/>
              <a:ext cx="3759120" cy="15764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22"/>
            <p:cNvSpPr/>
            <p:nvPr/>
          </p:nvSpPr>
          <p:spPr>
            <a:xfrm>
              <a:off x="1955880" y="5468760"/>
              <a:ext cx="2800440" cy="10432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1523880" y="3733920"/>
            <a:ext cx="6553080" cy="1042920"/>
            <a:chOff x="1523880" y="3733920"/>
            <a:chExt cx="6553080" cy="1042920"/>
          </a:xfrm>
        </p:grpSpPr>
        <p:sp>
          <p:nvSpPr>
            <p:cNvPr id="359" name="Freeform 24"/>
            <p:cNvSpPr/>
            <p:nvPr/>
          </p:nvSpPr>
          <p:spPr>
            <a:xfrm>
              <a:off x="1523880" y="3733920"/>
              <a:ext cx="3754080" cy="10429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5276520" y="373392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Rectangle 26"/>
          <p:cNvSpPr/>
          <p:nvPr/>
        </p:nvSpPr>
        <p:spPr>
          <a:xfrm>
            <a:off x="533520" y="2438280"/>
            <a:ext cx="4038480" cy="259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blipFill rotWithShape="0">
            <a:blip r:embed="rId1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Key Motivation Theories: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3" name="Picture 28" descr="E:\PFiles\MSOffice\Clipart\corpbas\j0078726.wmf"/>
          <p:cNvPicPr/>
          <p:nvPr/>
        </p:nvPicPr>
        <p:blipFill>
          <a:blip r:embed="rId12"/>
          <a:stretch/>
        </p:blipFill>
        <p:spPr>
          <a:xfrm>
            <a:off x="1295280" y="2514600"/>
            <a:ext cx="2408400" cy="2438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9"/>
          <p:cNvSpPr/>
          <p:nvPr/>
        </p:nvSpPr>
        <p:spPr>
          <a:xfrm>
            <a:off x="18288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oal-Setting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5257800" y="1295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inforcement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541008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ed The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410080" y="3809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Relations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5410080" y="518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ork Design The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1981080" y="5562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Role of People’s Persp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29680" y="2505240"/>
            <a:ext cx="3999240" cy="3427200"/>
          </a:xfrm>
          <a:prstGeom prst="rect">
            <a:avLst/>
          </a:prstGeom>
          <a:solidFill>
            <a:srgbClr val="ffe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15080" y="2505240"/>
            <a:ext cx="3998880" cy="3427200"/>
          </a:xfrm>
          <a:prstGeom prst="rect">
            <a:avLst/>
          </a:prstGeom>
          <a:solidFill>
            <a:srgbClr val="ffe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title"/>
          </p:nvPr>
        </p:nvSpPr>
        <p:spPr>
          <a:xfrm>
            <a:off x="458640" y="458640"/>
            <a:ext cx="8226720" cy="1370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Goal-Setting Theory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15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1143000" y="1755720"/>
            <a:ext cx="0" cy="395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3"/>
          <p:cNvSpPr/>
          <p:nvPr/>
        </p:nvSpPr>
        <p:spPr>
          <a:xfrm>
            <a:off x="2590920" y="3279600"/>
            <a:ext cx="0" cy="68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3657600" y="335592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4724280" y="335592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6095880" y="3279600"/>
            <a:ext cx="0" cy="68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7162920" y="3279600"/>
            <a:ext cx="0" cy="68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8229600" y="335592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2590920" y="472752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3657600" y="472752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724280" y="465120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6095880" y="465120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13"/>
          <p:cNvSpPr/>
          <p:nvPr/>
        </p:nvSpPr>
        <p:spPr>
          <a:xfrm>
            <a:off x="7162920" y="4575240"/>
            <a:ext cx="0" cy="6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8229600" y="465120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2680" y="458280"/>
            <a:ext cx="8378640" cy="682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BO: Cascading of Objectiv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382680" y="1297080"/>
            <a:ext cx="1520640" cy="911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ganiz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382680" y="2592360"/>
            <a:ext cx="1520640" cy="911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vis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382680" y="3963960"/>
            <a:ext cx="152064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part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382680" y="5259240"/>
            <a:ext cx="1520640" cy="91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2058840" y="1297080"/>
            <a:ext cx="6702480" cy="911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he XYZ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2058840" y="2592360"/>
            <a:ext cx="3121200" cy="911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onsumer Produ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5792760" y="2592360"/>
            <a:ext cx="2968560" cy="911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Industrial Produ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reeform 23"/>
          <p:cNvSpPr/>
          <p:nvPr/>
        </p:nvSpPr>
        <p:spPr>
          <a:xfrm>
            <a:off x="3619440" y="2209680"/>
            <a:ext cx="1792440" cy="382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Freeform 24"/>
          <p:cNvSpPr/>
          <p:nvPr/>
        </p:nvSpPr>
        <p:spPr>
          <a:xfrm>
            <a:off x="5410080" y="2209680"/>
            <a:ext cx="1868760" cy="382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Object 25" descr=""/>
          <p:cNvPicPr/>
          <p:nvPr/>
        </p:nvPicPr>
        <p:blipFill>
          <a:blip r:embed="rId3"/>
          <a:stretch/>
        </p:blipFill>
        <p:spPr>
          <a:xfrm>
            <a:off x="2286000" y="5299200"/>
            <a:ext cx="698400" cy="89856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26"/>
          <p:cNvGrpSpPr/>
          <p:nvPr/>
        </p:nvGrpSpPr>
        <p:grpSpPr>
          <a:xfrm>
            <a:off x="3346560" y="5315040"/>
            <a:ext cx="658800" cy="858600"/>
            <a:chOff x="3346560" y="5315040"/>
            <a:chExt cx="658800" cy="858600"/>
          </a:xfrm>
        </p:grpSpPr>
        <p:sp>
          <p:nvSpPr>
            <p:cNvPr id="398" name="Freeform 27"/>
            <p:cNvSpPr/>
            <p:nvPr/>
          </p:nvSpPr>
          <p:spPr>
            <a:xfrm>
              <a:off x="3346560" y="5315040"/>
              <a:ext cx="409320" cy="85860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28"/>
            <p:cNvGrpSpPr/>
            <p:nvPr/>
          </p:nvGrpSpPr>
          <p:grpSpPr>
            <a:xfrm>
              <a:off x="3724200" y="5322960"/>
              <a:ext cx="281160" cy="831600"/>
              <a:chOff x="3724200" y="5322960"/>
              <a:chExt cx="281160" cy="831600"/>
            </a:xfrm>
          </p:grpSpPr>
          <p:sp>
            <p:nvSpPr>
              <p:cNvPr id="400" name="Freeform 29"/>
              <p:cNvSpPr/>
              <p:nvPr/>
            </p:nvSpPr>
            <p:spPr>
              <a:xfrm>
                <a:off x="3724200" y="5322960"/>
                <a:ext cx="281160" cy="8316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Freeform 30"/>
              <p:cNvSpPr/>
              <p:nvPr/>
            </p:nvSpPr>
            <p:spPr>
              <a:xfrm>
                <a:off x="3798720" y="5402160"/>
                <a:ext cx="100080" cy="236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Freeform 31"/>
              <p:cNvSpPr/>
              <p:nvPr/>
            </p:nvSpPr>
            <p:spPr>
              <a:xfrm>
                <a:off x="3798720" y="5442120"/>
                <a:ext cx="54000" cy="1490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Object 32" descr=""/>
          <p:cNvPicPr/>
          <p:nvPr/>
        </p:nvPicPr>
        <p:blipFill>
          <a:blip r:embed="rId4"/>
          <a:stretch/>
        </p:blipFill>
        <p:spPr>
          <a:xfrm>
            <a:off x="4633920" y="5334120"/>
            <a:ext cx="339840" cy="84924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33" descr=""/>
          <p:cNvPicPr/>
          <p:nvPr/>
        </p:nvPicPr>
        <p:blipFill>
          <a:blip r:embed="rId5"/>
          <a:stretch/>
        </p:blipFill>
        <p:spPr>
          <a:xfrm>
            <a:off x="5952960" y="5305320"/>
            <a:ext cx="335160" cy="89244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34" descr=""/>
          <p:cNvPicPr/>
          <p:nvPr/>
        </p:nvPicPr>
        <p:blipFill>
          <a:blip r:embed="rId6"/>
          <a:stretch/>
        </p:blipFill>
        <p:spPr>
          <a:xfrm>
            <a:off x="6916680" y="5299200"/>
            <a:ext cx="698400" cy="8985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35"/>
          <p:cNvGrpSpPr/>
          <p:nvPr/>
        </p:nvGrpSpPr>
        <p:grpSpPr>
          <a:xfrm>
            <a:off x="7953480" y="5315040"/>
            <a:ext cx="658800" cy="858600"/>
            <a:chOff x="7953480" y="5315040"/>
            <a:chExt cx="658800" cy="858600"/>
          </a:xfrm>
        </p:grpSpPr>
        <p:sp>
          <p:nvSpPr>
            <p:cNvPr id="407" name="Freeform 36"/>
            <p:cNvSpPr/>
            <p:nvPr/>
          </p:nvSpPr>
          <p:spPr>
            <a:xfrm>
              <a:off x="8202600" y="5315040"/>
              <a:ext cx="409680" cy="85860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" name="Group 37"/>
            <p:cNvGrpSpPr/>
            <p:nvPr/>
          </p:nvGrpSpPr>
          <p:grpSpPr>
            <a:xfrm>
              <a:off x="7953480" y="5322960"/>
              <a:ext cx="280800" cy="831600"/>
              <a:chOff x="7953480" y="5322960"/>
              <a:chExt cx="280800" cy="831600"/>
            </a:xfrm>
          </p:grpSpPr>
          <p:sp>
            <p:nvSpPr>
              <p:cNvPr id="409" name="Freeform 38"/>
              <p:cNvSpPr/>
              <p:nvPr/>
            </p:nvSpPr>
            <p:spPr>
              <a:xfrm>
                <a:off x="7953480" y="5322960"/>
                <a:ext cx="280800" cy="8316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39"/>
              <p:cNvSpPr/>
              <p:nvPr/>
            </p:nvSpPr>
            <p:spPr>
              <a:xfrm>
                <a:off x="8059680" y="5402160"/>
                <a:ext cx="100080" cy="236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Freeform 40"/>
              <p:cNvSpPr/>
              <p:nvPr/>
            </p:nvSpPr>
            <p:spPr>
              <a:xfrm>
                <a:off x="8105760" y="5442120"/>
                <a:ext cx="54000" cy="1490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Rectangle 41"/>
          <p:cNvSpPr/>
          <p:nvPr/>
        </p:nvSpPr>
        <p:spPr>
          <a:xfrm>
            <a:off x="7697880" y="3963960"/>
            <a:ext cx="106344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6630840" y="3963960"/>
            <a:ext cx="106380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3"/>
          <p:cNvSpPr/>
          <p:nvPr/>
        </p:nvSpPr>
        <p:spPr>
          <a:xfrm>
            <a:off x="5564160" y="3963960"/>
            <a:ext cx="106380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4"/>
          <p:cNvSpPr/>
          <p:nvPr/>
        </p:nvSpPr>
        <p:spPr>
          <a:xfrm>
            <a:off x="4192560" y="3963960"/>
            <a:ext cx="106380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usto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3125880" y="3963960"/>
            <a:ext cx="106344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2058840" y="3963960"/>
            <a:ext cx="1063800" cy="91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152280" y="152280"/>
            <a:ext cx="54864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inforcement The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687240" y="3378240"/>
            <a:ext cx="2359080" cy="1314360"/>
          </a:xfrm>
          <a:prstGeom prst="rect">
            <a:avLst/>
          </a:prstGeom>
          <a:solidFill>
            <a:srgbClr val="ffe9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583080" y="2058840"/>
            <a:ext cx="1977840" cy="82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583080" y="3624120"/>
            <a:ext cx="1977840" cy="822600"/>
          </a:xfrm>
          <a:prstGeom prst="rect">
            <a:avLst/>
          </a:prstGeom>
          <a:solidFill>
            <a:srgbClr val="ffe9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w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583080" y="5273640"/>
            <a:ext cx="1977840" cy="820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097680" y="3378240"/>
            <a:ext cx="2359080" cy="1314360"/>
          </a:xfrm>
          <a:prstGeom prst="rect">
            <a:avLst/>
          </a:prstGeom>
          <a:solidFill>
            <a:srgbClr val="ffe9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3048120" y="4035600"/>
            <a:ext cx="534960" cy="1440"/>
          </a:xfrm>
          <a:prstGeom prst="pie">
            <a:avLst/>
          </a:prstGeom>
          <a:gradFill rotWithShape="0">
            <a:gsLst>
              <a:gs pos="0">
                <a:srgbClr val="7f334c"/>
              </a:gs>
              <a:gs pos="50000">
                <a:srgbClr val="ff6699"/>
              </a:gs>
              <a:gs pos="100000">
                <a:srgbClr val="7f334c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Freeform 9"/>
          <p:cNvSpPr/>
          <p:nvPr/>
        </p:nvSpPr>
        <p:spPr>
          <a:xfrm>
            <a:off x="5562720" y="4035600"/>
            <a:ext cx="534960" cy="1440"/>
          </a:xfrm>
          <a:prstGeom prst="pie">
            <a:avLst/>
          </a:prstGeom>
          <a:gradFill rotWithShape="0">
            <a:gsLst>
              <a:gs pos="0">
                <a:srgbClr val="7f334c"/>
              </a:gs>
              <a:gs pos="50000">
                <a:srgbClr val="ff6699"/>
              </a:gs>
              <a:gs pos="100000">
                <a:srgbClr val="7f334c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10"/>
          <p:cNvSpPr/>
          <p:nvPr/>
        </p:nvSpPr>
        <p:spPr>
          <a:xfrm>
            <a:off x="5562720" y="2470320"/>
            <a:ext cx="1716120" cy="9079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5562720" y="4694400"/>
            <a:ext cx="1716120" cy="9903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12"/>
          <p:cNvSpPr/>
          <p:nvPr/>
        </p:nvSpPr>
        <p:spPr>
          <a:xfrm>
            <a:off x="1866960" y="2470320"/>
            <a:ext cx="1716120" cy="9079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1866960" y="4694400"/>
            <a:ext cx="1716120" cy="9903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3581280" y="1066680"/>
            <a:ext cx="1978200" cy="82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" name="AutoShape 17"/>
          <p:cNvCxnSpPr>
            <a:stCxn id="430" idx="1"/>
            <a:endCxn id="419" idx="1"/>
          </p:cNvCxnSpPr>
          <p:nvPr/>
        </p:nvCxnSpPr>
        <p:spPr>
          <a:xfrm flipV="1" rot="10800000">
            <a:off x="686520" y="1476720"/>
            <a:ext cx="2894760" cy="2558520"/>
          </a:xfrm>
          <a:prstGeom prst="bentConnector3">
            <a:avLst>
              <a:gd name="adj1" fmla="val 10789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8"/>
          <p:cNvCxnSpPr>
            <a:stCxn id="423" idx="3"/>
            <a:endCxn id="430" idx="3"/>
          </p:cNvCxnSpPr>
          <p:nvPr/>
        </p:nvCxnSpPr>
        <p:spPr>
          <a:xfrm flipH="1" flipV="1">
            <a:off x="5559120" y="1477080"/>
            <a:ext cx="2898000" cy="2558520"/>
          </a:xfrm>
          <a:prstGeom prst="bentConnector3">
            <a:avLst>
              <a:gd name="adj1" fmla="val -78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 advTm="15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57200" y="914400"/>
            <a:ext cx="8231040" cy="5259240"/>
            <a:chOff x="457200" y="914400"/>
            <a:chExt cx="8231040" cy="5259240"/>
          </a:xfrm>
        </p:grpSpPr>
        <p:sp>
          <p:nvSpPr>
            <p:cNvPr id="434" name="Freeform 3"/>
            <p:cNvSpPr/>
            <p:nvPr/>
          </p:nvSpPr>
          <p:spPr>
            <a:xfrm>
              <a:off x="457200" y="5246640"/>
              <a:ext cx="8231040" cy="927000"/>
            </a:xfrm>
            <a:prstGeom prst="pie">
              <a:avLst/>
            </a:prstGeom>
            <a:gradFill rotWithShape="0">
              <a:gsLst>
                <a:gs pos="0">
                  <a:srgbClr val="4c004c"/>
                </a:gs>
                <a:gs pos="50000">
                  <a:srgbClr val="990099"/>
                </a:gs>
                <a:gs pos="100000">
                  <a:srgbClr val="4c00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c00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1316160" y="4157640"/>
              <a:ext cx="6502320" cy="947880"/>
            </a:xfrm>
            <a:prstGeom prst="pi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2149560" y="3087720"/>
              <a:ext cx="4838760" cy="923760"/>
            </a:xfrm>
            <a:prstGeom prst="pie">
              <a:avLst/>
            </a:prstGeom>
            <a:gradFill rotWithShape="0">
              <a:gsLst>
                <a:gs pos="0">
                  <a:srgbClr val="001966"/>
                </a:gs>
                <a:gs pos="50000">
                  <a:srgbClr val="0033cc"/>
                </a:gs>
                <a:gs pos="100000">
                  <a:srgbClr val="0019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2992320" y="1994040"/>
              <a:ext cx="3151440" cy="938160"/>
            </a:xfrm>
            <a:prstGeom prst="pie">
              <a:avLst/>
            </a:prstGeom>
            <a:gradFill rotWithShape="0">
              <a:gsLst>
                <a:gs pos="0">
                  <a:srgbClr val="7f0000"/>
                </a:gs>
                <a:gs pos="50000">
                  <a:srgbClr val="ff0000"/>
                </a:gs>
                <a:gs pos="100000">
                  <a:srgbClr val="7f0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3833640" y="914400"/>
              <a:ext cx="1457640" cy="936720"/>
            </a:xfrm>
            <a:prstGeom prst="pie">
              <a:avLst/>
            </a:prstGeom>
            <a:gradFill rotWithShape="0">
              <a:gsLst>
                <a:gs pos="0">
                  <a:srgbClr val="7f4c00"/>
                </a:gs>
                <a:gs pos="50000">
                  <a:srgbClr val="ff9900"/>
                </a:gs>
                <a:gs pos="100000">
                  <a:srgbClr val="7f4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AutoShape 8"/>
          <p:cNvSpPr/>
          <p:nvPr/>
        </p:nvSpPr>
        <p:spPr>
          <a:xfrm>
            <a:off x="304920" y="533520"/>
            <a:ext cx="2562120" cy="1447560"/>
          </a:xfrm>
          <a:prstGeom prst="roundRect">
            <a:avLst>
              <a:gd name="adj" fmla="val 16639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463680" y="646200"/>
            <a:ext cx="2244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slow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lf-act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g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2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ci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2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afet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2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hysiologic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Object 2" descr=""/>
          <p:cNvPicPr/>
          <p:nvPr/>
        </p:nvPicPr>
        <p:blipFill>
          <a:blip r:embed="rId1"/>
          <a:stretch/>
        </p:blipFill>
        <p:spPr>
          <a:xfrm>
            <a:off x="2149560" y="1447920"/>
            <a:ext cx="4844880" cy="48654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derfer’s ERG Theory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971800" y="2057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x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971800" y="3581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971800" y="5105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late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2"/>
          <p:cNvSpPr/>
          <p:nvPr/>
        </p:nvSpPr>
        <p:spPr>
          <a:xfrm>
            <a:off x="3755880" y="4506840"/>
            <a:ext cx="3787920" cy="1370160"/>
          </a:xfrm>
          <a:prstGeom prst="leftArrow">
            <a:avLst>
              <a:gd name="adj1" fmla="val 50000"/>
              <a:gd name="adj2" fmla="val 691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3755880" y="2519280"/>
            <a:ext cx="3787920" cy="1370160"/>
          </a:xfrm>
          <a:prstGeom prst="leftArrow">
            <a:avLst>
              <a:gd name="adj1" fmla="val 50000"/>
              <a:gd name="adj2" fmla="val 69166"/>
            </a:avLst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3755880" y="533520"/>
            <a:ext cx="3787920" cy="1369800"/>
          </a:xfrm>
          <a:prstGeom prst="leftArrow">
            <a:avLst>
              <a:gd name="adj1" fmla="val 50000"/>
              <a:gd name="adj2" fmla="val 691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5029200" y="533520"/>
            <a:ext cx="3828960" cy="536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cClelland’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457200" y="533520"/>
            <a:ext cx="3200400" cy="15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nA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457200" y="2519280"/>
            <a:ext cx="3200400" cy="159084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nP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457200" y="4506840"/>
            <a:ext cx="3200400" cy="158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nA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10" descr="E:\PFiles\MSOffice\Clipart\standard\stddir1\bd07188_.wmf"/>
          <p:cNvPicPr/>
          <p:nvPr/>
        </p:nvPicPr>
        <p:blipFill>
          <a:blip r:embed="rId1"/>
          <a:stretch/>
        </p:blipFill>
        <p:spPr>
          <a:xfrm>
            <a:off x="5334120" y="2830680"/>
            <a:ext cx="3352680" cy="2635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304920" y="533520"/>
            <a:ext cx="8381880" cy="2743200"/>
            <a:chOff x="304920" y="533520"/>
            <a:chExt cx="8381880" cy="2743200"/>
          </a:xfrm>
        </p:grpSpPr>
        <p:sp>
          <p:nvSpPr>
            <p:cNvPr id="456" name="Line 3"/>
            <p:cNvSpPr/>
            <p:nvPr/>
          </p:nvSpPr>
          <p:spPr>
            <a:xfrm>
              <a:off x="3660840" y="1905120"/>
              <a:ext cx="11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04920" y="1193760"/>
              <a:ext cx="3657600" cy="1473120"/>
            </a:xfrm>
            <a:prstGeom prst="rect">
              <a:avLst/>
            </a:prstGeom>
            <a:solidFill>
              <a:srgbClr val="ffe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heory 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Worker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4343400" y="1523880"/>
              <a:ext cx="4343400" cy="762120"/>
            </a:xfrm>
            <a:prstGeom prst="rect">
              <a:avLst/>
            </a:prstGeom>
            <a:solidFill>
              <a:srgbClr val="ffe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slike Wor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343400" y="2514600"/>
              <a:ext cx="4343400" cy="762120"/>
            </a:xfrm>
            <a:prstGeom prst="rect">
              <a:avLst/>
            </a:prstGeom>
            <a:solidFill>
              <a:srgbClr val="ffe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oid Responsibil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343400" y="533520"/>
              <a:ext cx="4324320" cy="761760"/>
            </a:xfrm>
            <a:prstGeom prst="rect">
              <a:avLst/>
            </a:prstGeom>
            <a:solidFill>
              <a:srgbClr val="ffe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ittle Ambi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2133720" y="2666880"/>
              <a:ext cx="2211120" cy="230400"/>
            </a:xfrm>
            <a:prstGeom prst="pie">
              <a:avLst/>
            </a:prstGeom>
            <a:solidFill>
              <a:srgbClr val="ffe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2133720" y="914400"/>
              <a:ext cx="2211120" cy="281160"/>
            </a:xfrm>
            <a:prstGeom prst="pie">
              <a:avLst/>
            </a:prstGeom>
            <a:solidFill>
              <a:srgbClr val="ffe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10"/>
          <p:cNvGrpSpPr/>
          <p:nvPr/>
        </p:nvGrpSpPr>
        <p:grpSpPr>
          <a:xfrm>
            <a:off x="304920" y="3429000"/>
            <a:ext cx="8381880" cy="2743200"/>
            <a:chOff x="304920" y="3429000"/>
            <a:chExt cx="8381880" cy="2743200"/>
          </a:xfrm>
        </p:grpSpPr>
        <p:sp>
          <p:nvSpPr>
            <p:cNvPr id="464" name="Rectangle 11"/>
            <p:cNvSpPr/>
            <p:nvPr/>
          </p:nvSpPr>
          <p:spPr>
            <a:xfrm>
              <a:off x="304920" y="4114800"/>
              <a:ext cx="3657600" cy="136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heory 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Worker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343400" y="4419720"/>
              <a:ext cx="434340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njoy Wor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4343400" y="5410080"/>
              <a:ext cx="43434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pt Responsibil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4343400" y="3429000"/>
              <a:ext cx="432432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lf-Dir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Freeform 15"/>
            <p:cNvSpPr/>
            <p:nvPr/>
          </p:nvSpPr>
          <p:spPr>
            <a:xfrm>
              <a:off x="2133720" y="5483160"/>
              <a:ext cx="2211120" cy="309600"/>
            </a:xfrm>
            <a:prstGeom prst="pie">
              <a:avLst/>
            </a:prstGeom>
            <a:solidFill>
              <a:srgbClr val="cc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Freeform 16"/>
            <p:cNvSpPr/>
            <p:nvPr/>
          </p:nvSpPr>
          <p:spPr>
            <a:xfrm>
              <a:off x="2133720" y="3809880"/>
              <a:ext cx="2211120" cy="306360"/>
            </a:xfrm>
            <a:prstGeom prst="pie">
              <a:avLst/>
            </a:prstGeom>
            <a:solidFill>
              <a:srgbClr val="cc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Freeform 17"/>
            <p:cNvSpPr/>
            <p:nvPr/>
          </p:nvSpPr>
          <p:spPr>
            <a:xfrm>
              <a:off x="3962520" y="4799160"/>
              <a:ext cx="382320" cy="2880"/>
            </a:xfrm>
            <a:prstGeom prst="pie">
              <a:avLst/>
            </a:prstGeom>
            <a:solidFill>
              <a:srgbClr val="cc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5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21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nagement Challenges</a:t>
            </a:r>
            <a:br>
              <a:rPr sz="4400"/>
            </a:b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After reading this chapter, you should be able to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makes leaders u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management and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how leaders use different power bases to exercise infl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effective and ineffective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dividualized goals to increase employe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30040" y="306360"/>
            <a:ext cx="8607600" cy="113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erzberg’s Two-Factor Theo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8640" y="1754280"/>
            <a:ext cx="4111920" cy="834840"/>
          </a:xfrm>
          <a:prstGeom prst="rect">
            <a:avLst/>
          </a:prstGeom>
          <a:solidFill>
            <a:srgbClr val="ffe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giene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4573440" y="1754280"/>
            <a:ext cx="4111920" cy="834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al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58640" y="2592360"/>
            <a:ext cx="4111920" cy="2892600"/>
          </a:xfrm>
          <a:prstGeom prst="rect">
            <a:avLst/>
          </a:prstGeom>
          <a:solidFill>
            <a:srgbClr val="ffe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super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f p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4573440" y="2592360"/>
            <a:ext cx="4111920" cy="289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Advan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64680" y="580248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8076600" y="580248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1523160" y="5802480"/>
            <a:ext cx="251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Dis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178600" y="5791320"/>
            <a:ext cx="215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4419720" y="57913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12"/>
          <p:cNvSpPr/>
          <p:nvPr/>
        </p:nvSpPr>
        <p:spPr>
          <a:xfrm flipH="1">
            <a:off x="460080" y="5715000"/>
            <a:ext cx="8226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8640" y="1144440"/>
            <a:ext cx="8226720" cy="5026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705720" y="1143000"/>
            <a:ext cx="1981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8088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J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3581280" y="1143000"/>
            <a:ext cx="198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30040" y="306000"/>
            <a:ext cx="8607600" cy="60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ackman-Oldham Model of Job Enrichmen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2209680" y="1638360"/>
            <a:ext cx="13734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5562720" y="1638360"/>
            <a:ext cx="114444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457200" y="2357280"/>
            <a:ext cx="19810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ll varie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identif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signific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3786840" y="2448000"/>
            <a:ext cx="17064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ingfu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3787200" y="3430440"/>
            <a:ext cx="148248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3789000" y="4657680"/>
            <a:ext cx="19213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 results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ork activ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3"/>
          <p:cNvSpPr/>
          <p:nvPr/>
        </p:nvSpPr>
        <p:spPr>
          <a:xfrm>
            <a:off x="458640" y="3787920"/>
            <a:ext cx="1165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457200" y="4930920"/>
            <a:ext cx="1099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6757560" y="2438280"/>
            <a:ext cx="19213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inter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moti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perform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absenteeis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urn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1754280" y="3962520"/>
            <a:ext cx="182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1754280" y="5105520"/>
            <a:ext cx="182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18"/>
          <p:cNvSpPr/>
          <p:nvPr/>
        </p:nvSpPr>
        <p:spPr>
          <a:xfrm>
            <a:off x="2438280" y="23637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440080" y="2895480"/>
            <a:ext cx="1141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0"/>
          <p:cNvSpPr/>
          <p:nvPr/>
        </p:nvSpPr>
        <p:spPr>
          <a:xfrm>
            <a:off x="3581280" y="5562720"/>
            <a:ext cx="22860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 Grow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Str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Freeform 21"/>
          <p:cNvSpPr/>
          <p:nvPr/>
        </p:nvSpPr>
        <p:spPr>
          <a:xfrm>
            <a:off x="5867280" y="5210280"/>
            <a:ext cx="1852560" cy="620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Freeform 22"/>
          <p:cNvSpPr/>
          <p:nvPr/>
        </p:nvSpPr>
        <p:spPr>
          <a:xfrm>
            <a:off x="1008000" y="5257800"/>
            <a:ext cx="2575080" cy="573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5943600" y="2363760"/>
            <a:ext cx="0" cy="30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5945040" y="2743200"/>
            <a:ext cx="76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25"/>
          <p:cNvSpPr/>
          <p:nvPr/>
        </p:nvSpPr>
        <p:spPr>
          <a:xfrm>
            <a:off x="5945040" y="3429000"/>
            <a:ext cx="76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26"/>
          <p:cNvSpPr/>
          <p:nvPr/>
        </p:nvSpPr>
        <p:spPr>
          <a:xfrm>
            <a:off x="5945040" y="4191120"/>
            <a:ext cx="76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27"/>
          <p:cNvSpPr/>
          <p:nvPr/>
        </p:nvSpPr>
        <p:spPr>
          <a:xfrm>
            <a:off x="5945040" y="4952880"/>
            <a:ext cx="76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Expectancy Theory of Motiva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0880" y="1447920"/>
            <a:ext cx="28958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457200" y="3429000"/>
            <a:ext cx="2819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4038480" y="2666880"/>
            <a:ext cx="22100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4038480" y="4724280"/>
            <a:ext cx="22100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6705720" y="3809880"/>
            <a:ext cx="2209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4572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pecta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457200" y="1905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0"/>
          <p:cNvSpPr/>
          <p:nvPr/>
        </p:nvSpPr>
        <p:spPr>
          <a:xfrm>
            <a:off x="12952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182880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457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22096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utc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15"/>
          <p:cNvSpPr/>
          <p:nvPr/>
        </p:nvSpPr>
        <p:spPr>
          <a:xfrm>
            <a:off x="18288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6858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38862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3886200" y="4876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9"/>
          <p:cNvSpPr/>
          <p:nvPr/>
        </p:nvSpPr>
        <p:spPr>
          <a:xfrm>
            <a:off x="65530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5" name="AutoShape 20"/>
          <p:cNvCxnSpPr>
            <a:stCxn id="509" idx="3"/>
            <a:endCxn id="511" idx="0"/>
          </p:cNvCxnSpPr>
          <p:nvPr/>
        </p:nvCxnSpPr>
        <p:spPr>
          <a:xfrm>
            <a:off x="3276720" y="2057040"/>
            <a:ext cx="1867680" cy="6102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AutoShape 21"/>
          <p:cNvCxnSpPr>
            <a:stCxn id="510" idx="3"/>
            <a:endCxn id="511" idx="2"/>
          </p:cNvCxnSpPr>
          <p:nvPr/>
        </p:nvCxnSpPr>
        <p:spPr>
          <a:xfrm flipV="1">
            <a:off x="3276720" y="3428640"/>
            <a:ext cx="1867680" cy="496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22"/>
          <p:cNvCxnSpPr>
            <a:stCxn id="522" idx="3"/>
            <a:endCxn id="513" idx="0"/>
          </p:cNvCxnSpPr>
          <p:nvPr/>
        </p:nvCxnSpPr>
        <p:spPr>
          <a:xfrm>
            <a:off x="6324480" y="2971800"/>
            <a:ext cx="1486800" cy="838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23"/>
          <p:cNvCxnSpPr>
            <a:stCxn id="523" idx="3"/>
            <a:endCxn id="513" idx="2"/>
          </p:cNvCxnSpPr>
          <p:nvPr/>
        </p:nvCxnSpPr>
        <p:spPr>
          <a:xfrm flipV="1">
            <a:off x="6324480" y="4571640"/>
            <a:ext cx="1486800" cy="534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 advTm="15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Equity Theor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838080" y="297180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Personal Outcom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638680" y="297180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Others’ Outcom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5"/>
          <p:cNvSpPr/>
          <p:nvPr/>
        </p:nvSpPr>
        <p:spPr>
          <a:xfrm>
            <a:off x="914400" y="3429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1295280" y="34290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6095880" y="34290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5943600" y="34290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3733920" y="3200400"/>
            <a:ext cx="167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vers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Management Perspectives: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or the Manag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manag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ize employees to contribute as much as possi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sense of direction to channel employee efforts for the benefit of the organiz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are more likely to accept the influence of managers they respect and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can earn respect and credibility by tapping the reservoir of ideas and expertise of subordinates and motivating them to fulfill a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Management Perspectives: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or Managing Tea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managed work teams need to provide leadership to unify the activities of the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vo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ing tasks to be accompl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up evaluation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ng rewards to individual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eam members may participate in this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iveness of the team may largely depend on its ability to lead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Management Perspectives: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or Individua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are more likely to succeed if they can manage themselves without relying on others to motivate them and define their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can become self-leader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opportunities in their work enviro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ing initia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ing others to do their b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ng enthusiasm for the tasks at h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Management Perspectives: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or Individual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may also motivate themselve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ting challenging go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ing tasks that meet their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ing the achievement of milest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21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nagement Challenges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basic reinforcement principles to stimulate desired employee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ware of the role of needs in employe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assumptions about people that may affect employee treatment and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k design as a means of employe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style affects employee motivation, which in turn determines a firm’s long-term performance prosp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ager cannot be an effective leader unless subordinates are willing to do their best to accomplish organizational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anagers want to provide strong leadership, they must also be concerned with employe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52280" y="304920"/>
            <a:ext cx="8764560" cy="6230160"/>
            <a:chOff x="152280" y="304920"/>
            <a:chExt cx="8764560" cy="6230160"/>
          </a:xfrm>
        </p:grpSpPr>
        <p:grpSp>
          <p:nvGrpSpPr>
            <p:cNvPr id="100" name="Group 4"/>
            <p:cNvGrpSpPr/>
            <p:nvPr/>
          </p:nvGrpSpPr>
          <p:grpSpPr>
            <a:xfrm>
              <a:off x="152280" y="928800"/>
              <a:ext cx="8764560" cy="5030640"/>
              <a:chOff x="152280" y="928800"/>
              <a:chExt cx="8764560" cy="5030640"/>
            </a:xfrm>
          </p:grpSpPr>
          <p:sp>
            <p:nvSpPr>
              <p:cNvPr id="101" name="Freeform 5"/>
              <p:cNvSpPr/>
              <p:nvPr/>
            </p:nvSpPr>
            <p:spPr>
              <a:xfrm>
                <a:off x="152280" y="2076480"/>
                <a:ext cx="4229280" cy="2766960"/>
              </a:xfrm>
              <a:prstGeom prst="pi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6"/>
              <p:cNvSpPr/>
              <p:nvPr/>
            </p:nvSpPr>
            <p:spPr>
              <a:xfrm>
                <a:off x="4686120" y="2076480"/>
                <a:ext cx="4230720" cy="2766960"/>
              </a:xfrm>
              <a:prstGeom prst="pi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4740120" y="928800"/>
                <a:ext cx="901800" cy="1820880"/>
              </a:xfrm>
              <a:prstGeom prst="pi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2962080" y="941400"/>
                <a:ext cx="1392480" cy="1822680"/>
              </a:xfrm>
              <a:prstGeom prst="pi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716360" y="3913200"/>
                <a:ext cx="762120" cy="2046240"/>
              </a:xfrm>
              <a:prstGeom prst="pi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3368520" y="4000680"/>
                <a:ext cx="900360" cy="1819080"/>
              </a:xfrm>
              <a:prstGeom prst="pi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Rectangle 11"/>
            <p:cNvSpPr/>
            <p:nvPr/>
          </p:nvSpPr>
          <p:spPr>
            <a:xfrm>
              <a:off x="698400" y="3124440"/>
              <a:ext cx="2408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Arial Rounded MT Bold"/>
                </a:rPr>
                <a:t>Leadershi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5896440" y="3124440"/>
              <a:ext cx="2889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Arial Rounded MT Bold"/>
                </a:rPr>
                <a:t>Managemen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323520" y="304920"/>
              <a:ext cx="260316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 Narrow"/>
                </a:rPr>
                <a:t>Compare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3449520" y="5715000"/>
              <a:ext cx="223416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 Narrow"/>
                </a:rPr>
                <a:t>Contras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5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anagement Skills for Leadership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187200" y="1981080"/>
            <a:ext cx="4384440" cy="2386080"/>
            <a:chOff x="187200" y="1981080"/>
            <a:chExt cx="4384440" cy="2386080"/>
          </a:xfrm>
        </p:grpSpPr>
        <p:sp>
          <p:nvSpPr>
            <p:cNvPr id="115" name="Rectangle 6"/>
            <p:cNvSpPr/>
            <p:nvPr/>
          </p:nvSpPr>
          <p:spPr>
            <a:xfrm>
              <a:off x="21744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187200" y="3030480"/>
              <a:ext cx="4384440" cy="1336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3027240" y="1982880"/>
              <a:ext cx="1544400" cy="2384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572000" y="1981080"/>
            <a:ext cx="4410000" cy="2386080"/>
            <a:chOff x="4572000" y="1981080"/>
            <a:chExt cx="4410000" cy="2386080"/>
          </a:xfrm>
        </p:grpSpPr>
        <p:sp>
          <p:nvSpPr>
            <p:cNvPr id="119" name="Freeform 10"/>
            <p:cNvSpPr/>
            <p:nvPr/>
          </p:nvSpPr>
          <p:spPr>
            <a:xfrm>
              <a:off x="4572000" y="3031920"/>
              <a:ext cx="4410000" cy="13352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4572000" y="1984320"/>
              <a:ext cx="1563840" cy="23828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15168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13"/>
          <p:cNvGrpSpPr/>
          <p:nvPr/>
        </p:nvGrpSpPr>
        <p:grpSpPr>
          <a:xfrm>
            <a:off x="41400" y="4114800"/>
            <a:ext cx="4530600" cy="1344600"/>
            <a:chOff x="41400" y="4114800"/>
            <a:chExt cx="4530600" cy="1344600"/>
          </a:xfrm>
        </p:grpSpPr>
        <p:sp>
          <p:nvSpPr>
            <p:cNvPr id="123" name="Rectangle 14"/>
            <p:cNvSpPr/>
            <p:nvPr/>
          </p:nvSpPr>
          <p:spPr>
            <a:xfrm>
              <a:off x="46080" y="412128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2854440" y="4114800"/>
              <a:ext cx="1704960" cy="133056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1400" y="5172120"/>
              <a:ext cx="453060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4572000" y="4114800"/>
            <a:ext cx="4508640" cy="1338120"/>
            <a:chOff x="4572000" y="4114800"/>
            <a:chExt cx="4508640" cy="1338120"/>
          </a:xfrm>
        </p:grpSpPr>
        <p:sp>
          <p:nvSpPr>
            <p:cNvPr id="127" name="Rectangle 18"/>
            <p:cNvSpPr/>
            <p:nvPr/>
          </p:nvSpPr>
          <p:spPr>
            <a:xfrm>
              <a:off x="6280200" y="411480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572000" y="4127400"/>
              <a:ext cx="1701720" cy="1309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4572000" y="5165640"/>
              <a:ext cx="449892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Rectangle 21"/>
          <p:cNvSpPr/>
          <p:nvPr/>
        </p:nvSpPr>
        <p:spPr>
          <a:xfrm>
            <a:off x="3149640" y="3505320"/>
            <a:ext cx="284472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3" descr="E:\PFiles\MSOffice\Clipart\standard\stddir2\bs01584_.wmf"/>
          <p:cNvPicPr/>
          <p:nvPr/>
        </p:nvPicPr>
        <p:blipFill>
          <a:blip r:embed="rId2"/>
          <a:stretch/>
        </p:blipFill>
        <p:spPr>
          <a:xfrm>
            <a:off x="3581280" y="3581280"/>
            <a:ext cx="2006640" cy="2043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4"/>
          <p:cNvSpPr/>
          <p:nvPr/>
        </p:nvSpPr>
        <p:spPr>
          <a:xfrm>
            <a:off x="304920" y="2209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luence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15228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legation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248520" y="2209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lexibility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400800" y="41911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tivational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actices Associated with Leadership by Managers: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ning and organiz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iva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gniz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ing conflict and team buil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eloping and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89000" y="2422440"/>
            <a:ext cx="4384440" cy="2386080"/>
            <a:chOff x="189000" y="2422440"/>
            <a:chExt cx="4384440" cy="2386080"/>
          </a:xfrm>
        </p:grpSpPr>
        <p:sp>
          <p:nvSpPr>
            <p:cNvPr id="142" name="Rectangle 5"/>
            <p:cNvSpPr/>
            <p:nvPr/>
          </p:nvSpPr>
          <p:spPr>
            <a:xfrm>
              <a:off x="219240" y="242244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189000" y="3471840"/>
              <a:ext cx="4384440" cy="1336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3029040" y="2424240"/>
              <a:ext cx="1544400" cy="2384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"/>
          <p:cNvGrpSpPr/>
          <p:nvPr/>
        </p:nvGrpSpPr>
        <p:grpSpPr>
          <a:xfrm>
            <a:off x="3171960" y="1419120"/>
            <a:ext cx="2800080" cy="3389400"/>
            <a:chOff x="3171960" y="1419120"/>
            <a:chExt cx="2800080" cy="3389400"/>
          </a:xfrm>
        </p:grpSpPr>
        <p:sp>
          <p:nvSpPr>
            <p:cNvPr id="146" name="Freeform 9"/>
            <p:cNvSpPr/>
            <p:nvPr/>
          </p:nvSpPr>
          <p:spPr>
            <a:xfrm>
              <a:off x="3174840" y="2470320"/>
              <a:ext cx="2795760" cy="233820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3171960" y="141912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4572000" y="2438280"/>
            <a:ext cx="4410000" cy="2386080"/>
            <a:chOff x="4572000" y="2438280"/>
            <a:chExt cx="4410000" cy="2386080"/>
          </a:xfrm>
        </p:grpSpPr>
        <p:sp>
          <p:nvSpPr>
            <p:cNvPr id="149" name="Freeform 12"/>
            <p:cNvSpPr/>
            <p:nvPr/>
          </p:nvSpPr>
          <p:spPr>
            <a:xfrm>
              <a:off x="4572000" y="3489120"/>
              <a:ext cx="4410000" cy="13352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4572000" y="2441520"/>
              <a:ext cx="1563840" cy="23828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6151680" y="24382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57240" y="3882960"/>
            <a:ext cx="4530600" cy="1344600"/>
            <a:chOff x="57240" y="3882960"/>
            <a:chExt cx="4530600" cy="1344600"/>
          </a:xfrm>
        </p:grpSpPr>
        <p:sp>
          <p:nvSpPr>
            <p:cNvPr id="153" name="Rectangle 16"/>
            <p:cNvSpPr/>
            <p:nvPr/>
          </p:nvSpPr>
          <p:spPr>
            <a:xfrm>
              <a:off x="61920" y="388944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2870280" y="3882960"/>
              <a:ext cx="1704960" cy="133056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7240" y="4940280"/>
              <a:ext cx="453060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Group 19"/>
          <p:cNvGrpSpPr/>
          <p:nvPr/>
        </p:nvGrpSpPr>
        <p:grpSpPr>
          <a:xfrm>
            <a:off x="4572000" y="3889440"/>
            <a:ext cx="4508640" cy="1338120"/>
            <a:chOff x="4572000" y="3889440"/>
            <a:chExt cx="4508640" cy="1338120"/>
          </a:xfrm>
        </p:grpSpPr>
        <p:sp>
          <p:nvSpPr>
            <p:cNvPr id="157" name="Rectangle 20"/>
            <p:cNvSpPr/>
            <p:nvPr/>
          </p:nvSpPr>
          <p:spPr>
            <a:xfrm>
              <a:off x="6280200" y="388944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4572000" y="3902040"/>
              <a:ext cx="1701720" cy="1309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4572000" y="4940280"/>
              <a:ext cx="449892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Rectangle 23"/>
          <p:cNvSpPr/>
          <p:nvPr/>
        </p:nvSpPr>
        <p:spPr>
          <a:xfrm>
            <a:off x="3124080" y="3429000"/>
            <a:ext cx="2845080" cy="2438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ower and Leadershi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Picture 26" descr="c:\Program Files\Common Files\Microsoft Shared\Clipart\cagcat50\BD04956_.WMF"/>
          <p:cNvPicPr/>
          <p:nvPr/>
        </p:nvPicPr>
        <p:blipFill>
          <a:blip r:embed="rId2"/>
          <a:stretch/>
        </p:blipFill>
        <p:spPr>
          <a:xfrm>
            <a:off x="2971800" y="3505320"/>
            <a:ext cx="3124080" cy="2124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7"/>
          <p:cNvSpPr/>
          <p:nvPr/>
        </p:nvSpPr>
        <p:spPr>
          <a:xfrm>
            <a:off x="3276720" y="1447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ercive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304920" y="24382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ward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6248520" y="251460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egitimate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228600" y="4114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xpert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6324480" y="3962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ferent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/>
  <dc:description>08-14-2001
revised 08-30-2001</dc:description>
  <dc:language>en-US</dc:language>
  <cp:lastModifiedBy>Bright</cp:lastModifiedBy>
  <dcterms:modified xsi:type="dcterms:W3CDTF">2013-08-23T06:11:06Z</dcterms:modified>
  <cp:revision>91</cp:revision>
  <dc:subject>Gomez-Mejia &amp; Balkin, Management 1E</dc:subject>
  <dc:title>Chapter 12 - Leading and Motivating Others</dc:title>
</cp:coreProperties>
</file>